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4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AC6C-29A3-4B99-997D-4CFD0BF5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4514-31C9-4E74-9B92-D7F2F2E6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164-CBF3-4552-9A6A-6A97B7E3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733-03FE-47EC-99CB-0290312F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8CD7-366A-4CE1-AF1E-6E9CC170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381B-428C-45DE-BBA1-7E46465D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E0B2-57C4-4FE9-833C-EC7CB31A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8326-884E-49ED-9CCF-0FBB6E3D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C402-5E93-4073-9848-D26AC8AA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7656-A851-4BBE-B2E1-AB2E066E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0849-0F36-4901-A769-9A07392B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F232-921E-48E9-BDE1-D81FD725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438F-9500-49FC-9F36-80CEC59B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5716-EA78-4FE5-8F60-352B2C73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976F-55AE-4587-BC7F-C2D40EF2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F503-903E-4E7D-A65A-2DA232D6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2A20-121D-4D72-9E3C-10C2EA3B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6419D-E032-469D-9E27-410F22EC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A228C-EB8D-49C4-B303-E69D57F5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9F336-67D2-4D63-B3EC-BBE08811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38A4D-F01B-4588-9460-87619674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0050D-4D8D-48C1-A173-B9165F5A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13D-BD4E-4B8F-8C7F-6AB0543E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5EA7A-FB5A-484B-BB56-BC90DBFA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5E80-FE25-40C1-8576-CC57BB91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599E5-F295-476A-989E-AAE8A0C0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F7045-2F4F-4EA7-9D1D-808AF6DA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C2B8E-8CE2-488E-BA96-4FB05544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0AAC2-17B6-4B1B-A82A-C4904A3F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574AD-D903-4899-ABBE-91F0047B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B510C-6F5A-4995-9CC7-D11C5466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3D34C-12D9-42EF-94A4-6283EA2A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957A8-E7FF-4219-BA37-93EED475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0A3-833A-4F36-A05E-BE707E1A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B8DE6-F3D7-4E50-96A8-E38EC297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7A287-BA04-4E8B-AAC7-EAD44752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01F80-6A00-45AB-AF48-454970C9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63367-7AEC-434A-BB5F-BA0FAAA7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9A757-F2A7-498E-BC72-3DE5F96F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E9829-9D05-4580-85D1-0211BBC0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2C772-8EEB-4F3B-A0C3-BD866CB1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DD3D7-FC20-4081-ACA3-FA058501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BB8F1-15A2-4BCA-9CBF-8AE20C2D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67344-722C-42D3-B117-51EBE0B9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16A-444B-45D2-8834-3938A464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C3249-B8DE-44C1-BA52-724E3BE7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DC77F-7698-4B7C-838C-8E3A81BF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7EB83-F912-4B6C-B815-2C68E4C6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9BAD5-EF3D-42C1-9A18-110D7159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AA65D-E569-469E-B3EF-0467D134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6988C-03A5-4DF6-9F87-D083FEE6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78C1A-2536-40F6-BA8F-91BD0E65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FBFBA-3A9A-457A-B048-6F289102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46BCE-03B9-4027-89C6-76F240D8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CB4C4-D1FB-45FA-80CD-80F0EE97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8F5-8120-4C8F-BBA8-163F7F0C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00C58-B670-46D4-A2F0-BDAAE92B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039-48FB-4E53-ACC3-34195151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7DDC-F393-4841-9572-12AA68CB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3EB-8B65-4C34-9B80-44AE614E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8616-E5AA-44C5-AA4C-A6505DC3968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AD4A-C716-46FE-A544-08695244903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344A-996F-4E9D-B000-4A3114B1C1D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0C5F-4123-4945-A479-5E6D71CDD006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7D9C-C8B7-480A-A6CC-4E34D7144B7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0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ET 504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Visual Introducti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2"/>
          <a:stretch/>
        </p:blipFill>
        <p:spPr>
          <a:xfrm>
            <a:off x="5200560" y="1139760"/>
            <a:ext cx="3625920" cy="20671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9000"/>
          </a:bodyPr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Johnston City, Illinois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1407 Davis Street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Johnston City High School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John A. Logan Colleg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Southern Illinois University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3"/>
          <a:stretch/>
        </p:blipFill>
        <p:spPr>
          <a:xfrm>
            <a:off x="1085760" y="1390680"/>
            <a:ext cx="33148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2"/>
          <a:stretch/>
        </p:blipFill>
        <p:spPr>
          <a:xfrm>
            <a:off x="5200560" y="1139760"/>
            <a:ext cx="3625920" cy="20671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My #1 Fan!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Grandpa Jo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Without him this would impossible!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3"/>
          <a:stretch/>
        </p:blipFill>
        <p:spPr>
          <a:xfrm>
            <a:off x="1085760" y="1616040"/>
            <a:ext cx="29196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119560" cy="2878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lvl="4" marL="18288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5897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oved On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t Collins, C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osc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en Thom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kund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5" descr="C:\Users\Tasha\Pictures\2009-10-18\396.JPG"/>
          <p:cNvPicPr/>
          <p:nvPr/>
        </p:nvPicPr>
        <p:blipFill>
          <a:blip r:embed="rId3"/>
          <a:stretch/>
        </p:blipFill>
        <p:spPr>
          <a:xfrm>
            <a:off x="6324480" y="4114800"/>
            <a:ext cx="1752840" cy="1284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4137120" y="2362320"/>
            <a:ext cx="1806480" cy="1523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5"/>
          <a:stretch/>
        </p:blipFill>
        <p:spPr>
          <a:xfrm>
            <a:off x="6324480" y="2362320"/>
            <a:ext cx="1752840" cy="1523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C:\Users\Tasha\Pictures\2009-10-18\396.JPG"/>
          <p:cNvPicPr/>
          <p:nvPr/>
        </p:nvPicPr>
        <p:blipFill>
          <a:blip r:embed="rId6"/>
          <a:stretch/>
        </p:blipFill>
        <p:spPr>
          <a:xfrm>
            <a:off x="4038480" y="4114800"/>
            <a:ext cx="1905120" cy="1284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C:\Users\Tasha\Pictures\2009-10-18\537.JPG"/>
          <p:cNvPicPr/>
          <p:nvPr/>
        </p:nvPicPr>
        <p:blipFill>
          <a:blip r:embed="rId7"/>
          <a:stretch/>
        </p:blipFill>
        <p:spPr>
          <a:xfrm>
            <a:off x="4114800" y="762120"/>
            <a:ext cx="1778040" cy="1295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C:\Users\Tasha\Pictures\2009-10-18\537.JPG"/>
          <p:cNvPicPr/>
          <p:nvPr/>
        </p:nvPicPr>
        <p:blipFill>
          <a:blip r:embed="rId8"/>
          <a:stretch/>
        </p:blipFill>
        <p:spPr>
          <a:xfrm>
            <a:off x="6324480" y="762120"/>
            <a:ext cx="1752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3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riends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nowboard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mp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usi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4" descr="C:\Users\Tasha\Pictures\2009-08-26\093.JPG"/>
          <p:cNvPicPr/>
          <p:nvPr/>
        </p:nvPicPr>
        <p:blipFill>
          <a:blip r:embed="rId2"/>
          <a:stretch/>
        </p:blipFill>
        <p:spPr>
          <a:xfrm>
            <a:off x="5791320" y="5181480"/>
            <a:ext cx="2057400" cy="152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"/>
          <p:cNvPicPr/>
          <p:nvPr/>
        </p:nvPicPr>
        <p:blipFill>
          <a:blip r:embed="rId3"/>
          <a:stretch/>
        </p:blipFill>
        <p:spPr>
          <a:xfrm>
            <a:off x="4343400" y="3581280"/>
            <a:ext cx="3193920" cy="1295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C:\Users\Tasha\Pictures\2009-10-18\534.JPG"/>
          <p:cNvPicPr/>
          <p:nvPr/>
        </p:nvPicPr>
        <p:blipFill>
          <a:blip r:embed="rId4"/>
          <a:stretch/>
        </p:blipFill>
        <p:spPr>
          <a:xfrm>
            <a:off x="4419720" y="304920"/>
            <a:ext cx="2895480" cy="1322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C:\Users\Tasha\AppData\Local\Microsoft\Windows\Temporary Internet Files\Low\Content.IE5\LECOVS6Z\0418091436[1].jpg"/>
          <p:cNvPicPr/>
          <p:nvPr/>
        </p:nvPicPr>
        <p:blipFill>
          <a:blip r:embed="rId5"/>
          <a:stretch/>
        </p:blipFill>
        <p:spPr>
          <a:xfrm>
            <a:off x="4876920" y="182880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C:\Users\Tasha\Pictures\2009-11-03 Phish Festival 8\Phish Festival 8 066.JPG"/>
          <p:cNvPicPr/>
          <p:nvPr/>
        </p:nvPicPr>
        <p:blipFill>
          <a:blip r:embed="rId6"/>
          <a:stretch/>
        </p:blipFill>
        <p:spPr>
          <a:xfrm>
            <a:off x="3276720" y="5181480"/>
            <a:ext cx="20574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9:56:00Z</dcterms:created>
  <dc:creator>Tasha</dc:creator>
  <dc:description/>
  <dc:language>en-US</dc:language>
  <cp:lastModifiedBy>ttolbert</cp:lastModifiedBy>
  <dcterms:modified xsi:type="dcterms:W3CDTF">2009-12-11T22:40:42Z</dcterms:modified>
  <cp:revision>29</cp:revision>
  <dc:subject/>
  <dc:title>Tasha Tolbert</dc:title>
</cp:coreProperties>
</file>